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336D-79E9-47A4-A370-B9ECCC2DF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iyvG3TZ6S68" TargetMode="External"/><Relationship Id="rId2" Type="http://schemas.openxmlformats.org/officeDocument/2006/relationships/slide" Target="../slides/slide17.xml"/><Relationship Id="rId3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iyvG3TZ6S68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hyperlinked to the clip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ED46-D5C6-4D71-9334-7D83D7003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AA27-6405-447A-BCC6-C6CA50685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7762-C926-479D-A2FE-93922349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CBCB-5D6B-414F-87EF-5A88D0D4A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6D84-3307-42AD-9DBE-A427942F4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B21B-4A6F-4E40-B948-D0782D81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CB2F-B0C1-4002-AD0C-B853BCDA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623D-95D8-4A81-844C-52E2C2C5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3CC1-4A1F-44C2-B38A-FFB5F0F7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15B6-ED03-4B37-AFCD-89C50C26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B15D-4557-49D0-8208-F8E9EDAB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06DB-1E00-4062-B212-DC060C91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C02E-2560-4806-A999-AEAC23FB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7786-6C4C-4583-B66B-EDF5D3FDA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99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2" descr=""/>
          <p:cNvPicPr/>
          <p:nvPr/>
        </p:nvPicPr>
        <p:blipFill>
          <a:blip r:embed="rId3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youtube.com/watch?v=iyvG3TZ6S68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11&amp;12: Proportional Reasoning </a:t>
            </a:r>
            <a:br>
              <a:rPr sz="3200"/>
            </a:br>
            <a:r>
              <a:rPr b="0" lang="en-US" sz="3200" spc="-1" strike="noStrike">
                <a:solidFill>
                  <a:srgbClr val="0d469b"/>
                </a:solidFill>
                <a:latin typeface="Arial"/>
              </a:rPr>
              <a:t>Building to More Complex Relationships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rley Dalry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isa Suurt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ren Tim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Matching Expectations to Big Ideas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23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5280" indent="-3952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one of the sets of expectations that you are familiar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-3952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as a team to determine which Big Idea each expectation connects to (try to narrow it down to 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-3952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each expectation on the chart paper with the Big Idea you connected i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3"/>
          <p:cNvSpPr/>
          <p:nvPr/>
        </p:nvSpPr>
        <p:spPr>
          <a:xfrm>
            <a:off x="457200" y="4800600"/>
            <a:ext cx="1447920" cy="1447920"/>
          </a:xfrm>
          <a:prstGeom prst="ellipse">
            <a:avLst/>
          </a:prstGeom>
          <a:solidFill>
            <a:srgbClr val="26267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MEL 3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MBF 3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4"/>
          <p:cNvSpPr/>
          <p:nvPr/>
        </p:nvSpPr>
        <p:spPr>
          <a:xfrm>
            <a:off x="1981080" y="5257800"/>
            <a:ext cx="1524240" cy="1523880"/>
          </a:xfrm>
          <a:prstGeom prst="ellipse">
            <a:avLst/>
          </a:prstGeom>
          <a:solidFill>
            <a:srgbClr val="26267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MEL 4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MAP 4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5"/>
          <p:cNvSpPr/>
          <p:nvPr/>
        </p:nvSpPr>
        <p:spPr>
          <a:xfrm>
            <a:off x="3657600" y="4648320"/>
            <a:ext cx="1523880" cy="1523880"/>
          </a:xfrm>
          <a:prstGeom prst="ellipse">
            <a:avLst/>
          </a:prstGeom>
          <a:solidFill>
            <a:srgbClr val="26267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MCT 4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MHF 4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6"/>
          <p:cNvSpPr/>
          <p:nvPr/>
        </p:nvSpPr>
        <p:spPr>
          <a:xfrm>
            <a:off x="5410080" y="5029200"/>
            <a:ext cx="1600200" cy="1600200"/>
          </a:xfrm>
          <a:prstGeom prst="ellipse">
            <a:avLst/>
          </a:prstGeom>
          <a:solidFill>
            <a:srgbClr val="26267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MCV 4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MDM 4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7"/>
          <p:cNvSpPr/>
          <p:nvPr/>
        </p:nvSpPr>
        <p:spPr>
          <a:xfrm>
            <a:off x="7086600" y="4724280"/>
            <a:ext cx="1523880" cy="1524240"/>
          </a:xfrm>
          <a:prstGeom prst="ellipse">
            <a:avLst/>
          </a:prstGeom>
          <a:solidFill>
            <a:srgbClr val="26267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MCR 3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MCF 3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Gallery Wal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79" name="Picture 6" descr="View Details"/>
          <p:cNvPicPr/>
          <p:nvPr/>
        </p:nvPicPr>
        <p:blipFill>
          <a:blip r:embed="rId1"/>
          <a:stretch/>
        </p:blipFill>
        <p:spPr>
          <a:xfrm>
            <a:off x="5791320" y="2514600"/>
            <a:ext cx="3047760" cy="3048120"/>
          </a:xfrm>
          <a:prstGeom prst="rect">
            <a:avLst/>
          </a:prstGeom>
          <a:ln w="0">
            <a:noFill/>
          </a:ln>
        </p:spPr>
      </p:pic>
      <p:sp>
        <p:nvSpPr>
          <p:cNvPr id="80" name="TextBox 6"/>
          <p:cNvSpPr/>
          <p:nvPr/>
        </p:nvSpPr>
        <p:spPr>
          <a:xfrm>
            <a:off x="457200" y="2057400"/>
            <a:ext cx="5334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a few minutes to walk around and look at the expectations under each Big Idea and consider whether you agree or disagree with their plac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houghts…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4475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4720" indent="-504720">
              <a:spcBef>
                <a:spcPts val="7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e some Big Ideas easier to match to than others?  Which 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720" indent="-504720">
              <a:spcBef>
                <a:spcPts val="7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some courses seem to have more proportional reasoning than others?  Which 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720" indent="-504720">
              <a:spcBef>
                <a:spcPts val="7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there anything that stood out for you during this activ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C:\Documents and Settings\suurtal\Local Settings\Temporary Internet Files\Content.IE5\OAZ122F2\MC900445118[1].wmf"/>
          <p:cNvPicPr/>
          <p:nvPr/>
        </p:nvPicPr>
        <p:blipFill>
          <a:blip r:embed="rId1"/>
          <a:stretch/>
        </p:blipFill>
        <p:spPr>
          <a:xfrm>
            <a:off x="8001000" y="5294160"/>
            <a:ext cx="53352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Inside/Outside Circl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8088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your response to the following with your part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hink the value of focussing on the same Big Ideas in proportional reasoning from   K – 12 might be that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C:\Documents and Settings\suurtal\Local Settings\Temporary Internet Files\Content.IE5\NIYPG7VX\MC900441990[1].wmf"/>
          <p:cNvPicPr/>
          <p:nvPr/>
        </p:nvPicPr>
        <p:blipFill>
          <a:blip r:embed="rId1"/>
          <a:stretch/>
        </p:blipFill>
        <p:spPr>
          <a:xfrm>
            <a:off x="7010280" y="49528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Inside/Outside Circl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8088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your response to the following with your part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any “aha” moments you had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C:\Documents and Settings\suurtal\Local Settings\Temporary Internet Files\Content.IE5\NIYPG7VX\MC900441990[1].wmf"/>
          <p:cNvPicPr/>
          <p:nvPr/>
        </p:nvPicPr>
        <p:blipFill>
          <a:blip r:embed="rId1"/>
          <a:stretch/>
        </p:blipFill>
        <p:spPr>
          <a:xfrm>
            <a:off x="7010280" y="49528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Inside/Outside Circl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88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your response to the following with your part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e there any ideas presented today that challenged your thinking?  If so, w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C:\Documents and Settings\suurtal\Local Settings\Temporary Internet Files\Content.IE5\NIYPG7VX\MC900441990[1].wmf"/>
          <p:cNvPicPr/>
          <p:nvPr/>
        </p:nvPicPr>
        <p:blipFill>
          <a:blip r:embed="rId1"/>
          <a:stretch/>
        </p:blipFill>
        <p:spPr>
          <a:xfrm>
            <a:off x="7010280" y="49528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Revisiting Session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533520" y="1905120"/>
            <a:ext cx="777240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xplore the Big Ideas of Proportional Reas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ke connections between course expectations to the Big Ideas of Proportional Reas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actice matching problems involving proportional reasoning to the Big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tters from Camppp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http://www.cartoonstock.com/lowres/dro0413l.jpg"/>
          <p:cNvPicPr/>
          <p:nvPr/>
        </p:nvPicPr>
        <p:blipFill>
          <a:blip r:embed="rId1"/>
          <a:stretch/>
        </p:blipFill>
        <p:spPr>
          <a:xfrm>
            <a:off x="4876920" y="1523880"/>
            <a:ext cx="3779640" cy="5026320"/>
          </a:xfrm>
          <a:prstGeom prst="rect">
            <a:avLst/>
          </a:prstGeom>
          <a:ln w="0">
            <a:noFill/>
          </a:ln>
        </p:spPr>
      </p:pic>
      <p:sp>
        <p:nvSpPr>
          <p:cNvPr id="98" name="Content Placeholder 2"/>
          <p:cNvSpPr/>
          <p:nvPr/>
        </p:nvSpPr>
        <p:spPr>
          <a:xfrm>
            <a:off x="380880" y="1371600"/>
            <a:ext cx="37339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concept: camping clip ar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2438280"/>
            <a:ext cx="1904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elcom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15328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nd Table Introdu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, Board, Role, one goal for CAMPPP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4" name="Picture 5" descr="http://www.offthemarkcartoons.com/cartoons/2004-10-08.gif"/>
          <p:cNvPicPr/>
          <p:nvPr/>
        </p:nvPicPr>
        <p:blipFill>
          <a:blip r:embed="rId1"/>
          <a:stretch/>
        </p:blipFill>
        <p:spPr>
          <a:xfrm>
            <a:off x="5638680" y="2819520"/>
            <a:ext cx="289584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Beach Ball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828440"/>
            <a:ext cx="57913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spcAft>
                <a:spcPts val="1800"/>
              </a:spcAft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In small groups, pass the beach ball to each other.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spcAft>
                <a:spcPts val="1800"/>
              </a:spcAft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hen you catch the beach ball, answer the question that is closest to your left thumb.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7" name="Picture 2" descr="balls,beach balls,leisure,recreation"/>
          <p:cNvPicPr/>
          <p:nvPr/>
        </p:nvPicPr>
        <p:blipFill>
          <a:blip r:embed="rId1"/>
          <a:stretch/>
        </p:blipFill>
        <p:spPr>
          <a:xfrm>
            <a:off x="6705720" y="4343400"/>
            <a:ext cx="210492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Group Norm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685800" y="1676520"/>
            <a:ext cx="8001000" cy="46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ideas will be listened to carefully and responded to respectf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will have a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questions and comments will be presented with the intent to move the collective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ing questions are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will engage fully in the mo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533520" y="1905120"/>
            <a:ext cx="777240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xplore the Big Ideas of Proportional Reas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ke connections between course expectations to the Big Ideas of Proportional Reas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actice matching problems involving proportional reasoning to the Big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Big Picture for the Wee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04920" y="1981080"/>
          <a:ext cx="8534160" cy="4200480"/>
        </p:xfrm>
        <a:graphic>
          <a:graphicData uri="http://schemas.openxmlformats.org/drawingml/2006/table">
            <a:tbl>
              <a:tblPr/>
              <a:tblGrid>
                <a:gridCol w="1600200"/>
                <a:gridCol w="1676160"/>
                <a:gridCol w="1844640"/>
                <a:gridCol w="1812960"/>
                <a:gridCol w="1600200"/>
              </a:tblGrid>
              <a:tr h="54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es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dnes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urs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6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oring Big Ideas for Proportional Reason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4600" indent="-174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4600" indent="-1746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ing them to the curricul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ing good consolidation ques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5920" indent="-115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5920" indent="-1159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ing learning goals connected to Big Ideas and curricul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ing parallel questions, corresponding common questions and scaffolding ques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5920" indent="-115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5920" indent="-1159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ed conversations with critical frie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ing open questions and corresponding  scaffolding ques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4600" indent="-174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4600" indent="-1746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ed conversations with critical frie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4600" indent="-1746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ousel to share our work and explore other group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Where is proportional reasoning?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65" name="Diagram 3" descr=""/>
          <p:cNvPicPr/>
          <p:nvPr/>
        </p:nvPicPr>
        <p:blipFill>
          <a:blip r:embed="rId1"/>
          <a:stretch/>
        </p:blipFill>
        <p:spPr>
          <a:xfrm>
            <a:off x="176040" y="1566720"/>
            <a:ext cx="875520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t’s do some math….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one of the problems on the page and complet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you have completed the problem consi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85760" indent="-3427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what ways did you, or could you have, used proportional reasoning when solving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5760" indent="-3427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big idea(s) might be addressed with the problem you cho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tanding conversations….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33160" y="1904760"/>
            <a:ext cx="61722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78640" indent="-264600">
              <a:spcBef>
                <a:spcPts val="7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someone in the room who completed the same problem as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8640" indent="-264600">
              <a:spcBef>
                <a:spcPts val="7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conversation about what proportional reasoning was involved and which big idea(s) you think the problem might connect 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http://www.clker.com/cliparts/5/b/9/8/1194984513646717809chat_icon_01.svg.hi.png"/>
          <p:cNvPicPr/>
          <p:nvPr/>
        </p:nvPicPr>
        <p:blipFill>
          <a:blip r:embed="rId1"/>
          <a:stretch/>
        </p:blipFill>
        <p:spPr>
          <a:xfrm>
            <a:off x="6400800" y="4114800"/>
            <a:ext cx="254952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7T12:59:04Z</dcterms:created>
  <dc:creator>Liisa Suurtamm</dc:creator>
  <dc:description/>
  <dc:language>en-US</dc:language>
  <cp:lastModifiedBy>Liisa Suurtamm</cp:lastModifiedBy>
  <dcterms:modified xsi:type="dcterms:W3CDTF">2010-08-16T20:54:56Z</dcterms:modified>
  <cp:revision>55</cp:revision>
  <dc:subject/>
  <dc:title>Slide 1</dc:title>
</cp:coreProperties>
</file>